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15F85-A312-4CAF-B337-CAD70EDA4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Book Student is an online subscription database that you and your students can access.  It is a wonderful resource to use to help students learn about the research process.  This is a tool that will provide you and the students with accurate and current information.  Let’s take a look at all of it’s featur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Explore”</a:t>
            </a:r>
            <a:r>
              <a:rPr b="0" lang="en-US" sz="1200" spc="-1" strike="noStrike">
                <a:solidFill>
                  <a:srgbClr val="000000"/>
                </a:solidFill>
                <a:latin typeface="Arial"/>
              </a:rPr>
              <a:t> articles, tables, maps, and multimedia on various topics of world geopgraphy.  Choose a location then search for information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ople, the land, climate, animal life, plant life, agriculture, industry, transportation and communicatio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y Research Tools allows you and the students to compile information, create, and save research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imelines” feature that allows students to create timelines in different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y Research Tools” allows users to create an account to store research information and resources from World Book as well as external URLs  Users can also write annotations and notes within their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itation Builder” walks students through the necessary steps to create citations in MLA, APA or Harvard format.  Citations can be stored in “My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earch Tools section of World Book Student provides the students with helpful tips and information on how to do research and locat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ow to do Research” and ”Research Skills for Students” offers numerous helpful links for students on the how to’s and why’s in conducting re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a section for you, as the educator to help teach the research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ducator’s Research Center” provides you with resources on teaching research skills to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available to demonstrate the use of any of the tools that we have looked at today.  I am also available to collaborate with any of your class research needs.  If at any time you have a question or concern about using World Book Student, please don’t hesitate to contact me.  I hope you’ll enjoy getting to know all of the wondereful resources and tools that World Book Student has to offer.  Happy researching!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of what this online database offers.  We will take a closer look at each of these feature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World Book Student will provide answers to questions that intermediate level students will be searching for.  There is also another database that World Book offers, called World Book Kids, which is appropriate for primary level students.  A nice feature of World Book Student’s searching is that it will also search the World Book Kids database.  The results from World Book Kids might offer struggling readers with material that is at an easier level for reading and understanding.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mple search interface that you see clearly at the top of the World Book Student homepage will allow for searching within World Book Student, World Book Kids and media (which includes videos, images, atlas ma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Book Kids is another database that is geared for primary students but may contain some valuable piece of information that a student may need.  Additionally, the search within this portion of World Book may provide more appropriate resources for ESL students, struggling readers or students with special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anced Search options allows you to search by words, phrase, date and type of source (e.g. Encyclopedia Articles, Dictionary, tables, “Back in Time,” special reports,  web sites, research guides, timelines, maps, pictures, sounds, historical maps, videos and ani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lean Search</a:t>
            </a:r>
            <a:r>
              <a:rPr b="0" lang="en-US" sz="1200" spc="-1" strike="noStrike">
                <a:solidFill>
                  <a:srgbClr val="000000"/>
                </a:solidFill>
                <a:latin typeface="Arial"/>
              </a:rPr>
              <a:t> (As part of Advanced Search:” Available </a:t>
            </a:r>
            <a:r>
              <a:rPr b="1" lang="en-US" sz="1200" spc="-1" strike="noStrike">
                <a:solidFill>
                  <a:srgbClr val="000000"/>
                </a:solidFill>
                <a:latin typeface="Arial"/>
              </a:rPr>
              <a:t>(and, or, no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iography Center</a:t>
            </a:r>
            <a:r>
              <a:rPr b="0" lang="en-US" sz="1200" spc="-1" strike="noStrike">
                <a:solidFill>
                  <a:srgbClr val="000000"/>
                </a:solidFill>
                <a:latin typeface="Arial"/>
              </a:rPr>
              <a:t>” is a treasure trove of information about inventors, athletes, explorers, painters, authors, world leaders, as well as many more famous people.  In addition to being able to search a category of famous people, you can search by gender, ethnicity, nationality and time peri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literally thousands of biograph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nd the students are able to print articles, email them, and/or save them to “my research” files (we’ll talk about that feature in a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dition to providing students with grade level resources, World Book Student has a dictionary feature.  If you don’t know or understand a word, double click on it and a dictionary definition of word will pop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37E1B-E8EF-493F-90EC-A7B86228D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B75F6-50EC-4699-B597-9D4A82A7A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B7972-D1A3-43BA-95CA-9E621FC41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EBBC8-3820-4C44-BCB6-DF27DDDE1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5FAFCF-2BBF-46C4-B5C8-D6632847E8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D600F-DF3F-464A-B1C4-8F55262D7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F3711-4785-4CDD-BB63-324F6AB1B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BB8A3-78DA-4DB0-AF16-3888EFC0C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B78E8-1275-4FF2-8F48-91096452C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4572E-FF25-4003-834E-DC2B817BB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93E65-397D-4ACB-B7BD-507E91D97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E86BB-2EDD-4272-B2AF-2B3AF4891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A868D-3F5A-41CD-9623-2E80D70CF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778D5-9041-4CCA-984A-C1C1E5198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C1483-627C-498A-8875-2B6300707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2DF226-B788-4817-AF3D-59168CCAD3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92C02F-D5B3-45F5-9B88-B39AB69A91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12CF7-FCD1-4BDD-8254-85D6815F5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64128-E588-4FD7-B89C-777A161CA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4CD0E-98DF-42D8-B1FA-9FD0BB7AF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A504B-1E30-4D0F-B5DF-F8E0AC065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44F7D-405E-4C4F-A141-9B6F33511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B0441-295D-4F29-AA43-ED1DAEFEA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778CA-A9DD-4567-B3AC-D616B20DB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BE7E3-0230-4123-9391-8DEEA9F6E3E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5E58F-F627-49D1-B5ED-D8B8FFD9D6D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worldbook/" TargetMode="External"/><Relationship Id="rId2" Type="http://schemas.openxmlformats.org/officeDocument/2006/relationships/hyperlink" Target="http://www.worldbook/" TargetMode="External"/><Relationship Id="rId3" Type="http://schemas.openxmlformats.org/officeDocument/2006/relationships/hyperlink" Target="http://www.worldbook/" TargetMode="Externa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Arial"/>
              </a:rPr>
              <a:t>World Book Student</a:t>
            </a:r>
            <a:endParaRPr b="0" lang="en-US" sz="5400" spc="-1" strike="noStrike">
              <a:solidFill>
                <a:srgbClr val="ccecff"/>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 Online Subscription Databas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85" name="" descr=""/>
          <p:cNvPicPr/>
          <p:nvPr/>
        </p:nvPicPr>
        <p:blipFill>
          <a:blip r:embed="rId1"/>
          <a:stretch/>
        </p:blipFill>
        <p:spPr>
          <a:xfrm>
            <a:off x="0" y="0"/>
            <a:ext cx="19516680" cy="8415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plore World Geography</a:t>
            </a: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opl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nd</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mat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imal &amp; plant lif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gricultur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dustr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plore screen shot</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0" name="" descr=""/>
          <p:cNvPicPr/>
          <p:nvPr/>
        </p:nvPicPr>
        <p:blipFill>
          <a:blip r:embed="rId1"/>
          <a:stretch/>
        </p:blipFill>
        <p:spPr>
          <a:xfrm>
            <a:off x="-2286000" y="-380880"/>
            <a:ext cx="19516680" cy="8415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earch Tools</a:t>
            </a:r>
            <a:endParaRPr b="0" lang="en-US" sz="44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mpile informatio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reate project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ave project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itation Builde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earch Tools Help </a:t>
            </a: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to do Research</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search Skills for Student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7" name="" descr=""/>
          <p:cNvPicPr/>
          <p:nvPr/>
        </p:nvPicPr>
        <p:blipFill>
          <a:blip r:embed="rId1"/>
          <a:stretch/>
        </p:blipFill>
        <p:spPr>
          <a:xfrm>
            <a:off x="0" y="0"/>
            <a:ext cx="19516680" cy="8472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tting Started . . .</a:t>
            </a:r>
            <a:endParaRPr b="0" lang="en-US" sz="44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monstration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llaboration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Question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Presentation Created by </a:t>
            </a:r>
            <a:br>
              <a:rPr sz="4000"/>
            </a:br>
            <a:r>
              <a:rPr b="0" i="1" lang="en-US" sz="4000" spc="-1" strike="noStrike">
                <a:solidFill>
                  <a:srgbClr val="ccecff"/>
                </a:solidFill>
                <a:latin typeface="Arial"/>
              </a:rPr>
              <a:t>Mrs. Amy Merrill</a:t>
            </a:r>
            <a:endParaRPr b="0" lang="en-US" sz="40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ll information and screen shots were obtained from </a:t>
            </a:r>
            <a:r>
              <a:rPr b="0" i="1" lang="en-US" sz="3200" spc="-1" strike="noStrike">
                <a:solidFill>
                  <a:srgbClr val="ffffff"/>
                </a:solidFill>
                <a:latin typeface="Verdana"/>
              </a:rPr>
              <a:t>World Book Student Online</a:t>
            </a:r>
            <a:r>
              <a:rPr b="0" lang="en-US" sz="3200" spc="-1" strike="noStrike">
                <a:solidFill>
                  <a:srgbClr val="ffffff"/>
                </a:solidFill>
                <a:latin typeface="Verdana"/>
              </a:rPr>
              <a:t> Databas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hlinkClick r:id="rId1"/>
              </a:rPr>
              <a:t>http://</a:t>
            </a:r>
            <a:r>
              <a:rPr b="0" lang="en-US" sz="3200" spc="-1" strike="noStrike" u="sng">
                <a:solidFill>
                  <a:srgbClr val="ffffcc"/>
                </a:solidFill>
                <a:uFillTx/>
                <a:latin typeface="Verdana"/>
                <a:hlinkClick r:id="rId2"/>
              </a:rPr>
              <a:t>www.worldbookonline.com</a:t>
            </a:r>
            <a:r>
              <a:rPr b="0" lang="en-US" sz="3200" spc="-1" strike="noStrike" u="sng">
                <a:solidFill>
                  <a:srgbClr val="ffffcc"/>
                </a:solidFill>
                <a:uFillTx/>
                <a:latin typeface="Verdana"/>
                <a:hlinkClick r:id="rId3"/>
              </a:rPr>
              <a:t>/student/hom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ecff"/>
                </a:solidFill>
                <a:uFillTx/>
                <a:latin typeface="Arial"/>
              </a:rPr>
              <a:t>Works Cited</a:t>
            </a:r>
            <a:endParaRPr b="0" lang="en-US" sz="4400" spc="-1" strike="noStrike">
              <a:solidFill>
                <a:srgbClr val="ccec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orld Book." Web. 24 Apr. 2010. &lt;http://www.worldbookonline.com/student/home&g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use </a:t>
            </a:r>
            <a:r>
              <a:rPr b="1" i="1" lang="en-US" sz="4400" spc="-1" strike="noStrike">
                <a:solidFill>
                  <a:srgbClr val="ccecff"/>
                </a:solidFill>
                <a:latin typeface="Arial"/>
              </a:rPr>
              <a:t>World Book Student?</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Quality resourc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ge appropriate material</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ach the research proces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asy to us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does </a:t>
            </a:r>
            <a:r>
              <a:rPr b="1" i="1" lang="en-US" sz="4000" spc="-1" strike="noStrike">
                <a:solidFill>
                  <a:srgbClr val="ccecff"/>
                </a:solidFill>
                <a:latin typeface="Arial"/>
              </a:rPr>
              <a:t>World Book Student</a:t>
            </a:r>
            <a:r>
              <a:rPr b="0" lang="en-US" sz="4000" spc="-1" strike="noStrike">
                <a:solidFill>
                  <a:srgbClr val="ccecff"/>
                </a:solidFill>
                <a:latin typeface="Arial"/>
              </a:rPr>
              <a:t> Offer?</a:t>
            </a:r>
            <a:endParaRPr b="0" lang="en-US" sz="40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mple search interfa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vanced Search Option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Biography Cente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Today” (current event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Explore” (world geography)</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Research Tool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o should use </a:t>
            </a:r>
            <a:br>
              <a:rPr sz="4000"/>
            </a:br>
            <a:r>
              <a:rPr b="1" i="1" lang="en-US" sz="4000" spc="-1" strike="noStrike">
                <a:solidFill>
                  <a:srgbClr val="ffffff"/>
                </a:solidFill>
                <a:latin typeface="Arial"/>
              </a:rPr>
              <a:t>World Book Student?</a:t>
            </a:r>
            <a:endParaRPr b="0" lang="en-US" sz="40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termediate level student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imary grade students &amp; </a:t>
            </a:r>
            <a:r>
              <a:rPr b="1" i="1" lang="en-US" sz="3200" spc="-1" strike="noStrike">
                <a:solidFill>
                  <a:srgbClr val="ffffff"/>
                </a:solidFill>
                <a:latin typeface="Verdana"/>
              </a:rPr>
              <a:t>World Book Kid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imple Search</a:t>
            </a:r>
            <a:endParaRPr b="0" lang="en-US" sz="44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orld Book Studen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orld Book Kid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dia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5" name="" descr=""/>
          <p:cNvPicPr/>
          <p:nvPr/>
        </p:nvPicPr>
        <p:blipFill>
          <a:blip r:embed="rId1"/>
          <a:stretch/>
        </p:blipFill>
        <p:spPr>
          <a:xfrm>
            <a:off x="0" y="0"/>
            <a:ext cx="19516680" cy="841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vanced Search</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word</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phras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dat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type of sour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vanced search screen shot</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80" name="" descr=""/>
          <p:cNvPicPr/>
          <p:nvPr/>
        </p:nvPicPr>
        <p:blipFill>
          <a:blip r:embed="rId1"/>
          <a:stretch/>
        </p:blipFill>
        <p:spPr>
          <a:xfrm>
            <a:off x="0" y="0"/>
            <a:ext cx="19516680" cy="841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ography Center</a:t>
            </a:r>
            <a:endParaRPr b="0" lang="en-US" sz="4400" spc="-1" strike="noStrike">
              <a:solidFill>
                <a:srgbClr val="ccec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ousands of biographi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ge appropriate article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ctionary pop-up</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int, email or save to “my research” fil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22:23:52Z</dcterms:created>
  <dc:creator> </dc:creator>
  <dc:description/>
  <dc:language>en-US</dc:language>
  <cp:lastModifiedBy> </cp:lastModifiedBy>
  <dcterms:modified xsi:type="dcterms:W3CDTF">2010-04-30T00:02:38Z</dcterms:modified>
  <cp:revision>7</cp:revision>
  <dc:subject/>
  <dc:title>Slide 1</dc:title>
</cp:coreProperties>
</file>